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utigerBold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eplerRegular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KeplerRegular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KeplerRegula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5FD6-6760-4669-ABB1-887C9D4461B8}" type="slidenum">
              <a:rPr b="0" lang="en-US" sz="1200" spc="-1" strike="noStrike">
                <a:solidFill>
                  <a:srgbClr val="000000"/>
                </a:solidFill>
                <a:latin typeface="KeplerRegula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F3D5-0F73-42C5-B7CB-06B5245C25B4}" type="slidenum">
              <a:rPr b="0" lang="en-US" sz="1200" spc="-1" strike="noStrike">
                <a:solidFill>
                  <a:srgbClr val="000000"/>
                </a:solidFill>
                <a:latin typeface="KeplerRegula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eplerRegular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0CF8D-6992-44D8-8A3D-569314058E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6781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76520" y="3766680"/>
            <a:ext cx="6781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02942-CD3D-4DAC-A174-1EEC38CAD5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60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6520" y="376668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600" y="376668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87332-59B6-47B1-AB89-B9F6E13448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69360" y="121932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2560" y="121932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76520" y="376668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69360" y="376668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2560" y="376668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D4055-D0CB-482F-8C68-B4DECA88EE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676520" y="1219320"/>
            <a:ext cx="6781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6781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309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1600" y="1219320"/>
            <a:ext cx="3309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676520" y="271080"/>
            <a:ext cx="6781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1600" y="1219320"/>
            <a:ext cx="3309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676520" y="376668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76520" y="1219320"/>
            <a:ext cx="6781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147E5-29DF-42DD-AB6D-3F3C3F0A72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309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160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1600" y="376668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60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76520" y="3766680"/>
            <a:ext cx="6781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6781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676520" y="3766680"/>
            <a:ext cx="6781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160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676520" y="376668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1600" y="376668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69360" y="121932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62560" y="121932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676520" y="376668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969360" y="376668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62560" y="3766680"/>
            <a:ext cx="21834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6781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2DAF1-8FAB-4E0B-A3AD-82D6490A23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309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600" y="1219320"/>
            <a:ext cx="3309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40270-AE19-4647-A1D4-0B3013B30F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DD668-1ACA-4FA7-BBCA-64ADF05962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76520" y="271080"/>
            <a:ext cx="6781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C41C8-907F-4A6C-947E-8159A570F8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600" y="1219320"/>
            <a:ext cx="3309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76520" y="376668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B9DB9-769E-486E-B1EF-604E54060E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309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60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600" y="376668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A1E13-3664-4025-B8BE-FE8DCCF0C7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600" y="1219320"/>
            <a:ext cx="3309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76520" y="3766680"/>
            <a:ext cx="67816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36208-A3BE-4931-B62D-B82BB6BFAA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utigerBold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520" y="1219320"/>
            <a:ext cx="6781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-315360">
              <a:spcBef>
                <a:spcPts val="3251"/>
              </a:spcBef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  <a:p>
            <a:pPr lvl="1" marL="5760" indent="-4320">
              <a:spcBef>
                <a:spcPts val="3251"/>
              </a:spcBef>
              <a:buClr>
                <a:srgbClr val="000000"/>
              </a:buClr>
              <a:buFont typeface="Kepler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  <a:p>
            <a:pPr lvl="2" marL="217440" indent="-210240">
              <a:spcBef>
                <a:spcPts val="3251"/>
              </a:spcBef>
              <a:buClr>
                <a:srgbClr val="000000"/>
              </a:buClr>
              <a:buFont typeface="Kepler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  <a:p>
            <a:pPr lvl="3" marL="429120" indent="-210240">
              <a:spcBef>
                <a:spcPts val="3251"/>
              </a:spcBef>
              <a:buClr>
                <a:srgbClr val="000000"/>
              </a:buClr>
              <a:buSzPct val="90000"/>
              <a:buFont typeface="Kepler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  <a:p>
            <a:pPr lvl="4" marL="641160" indent="-210240">
              <a:spcBef>
                <a:spcPts val="3251"/>
              </a:spcBef>
              <a:buClr>
                <a:srgbClr val="000000"/>
              </a:buClr>
              <a:buSzPct val="90000"/>
              <a:buFont typeface="Kepler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  <a:p>
            <a:pPr lvl="5" marL="641160" indent="-210240">
              <a:spcBef>
                <a:spcPts val="3251"/>
              </a:spcBef>
              <a:buClr>
                <a:srgbClr val="000000"/>
              </a:buClr>
              <a:buSzPct val="90000"/>
              <a:buFont typeface="Kepler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  <a:p>
            <a:pPr lvl="6" marL="641160" indent="-210240">
              <a:spcBef>
                <a:spcPts val="3251"/>
              </a:spcBef>
              <a:buClr>
                <a:srgbClr val="000000"/>
              </a:buClr>
              <a:buSzPct val="90000"/>
              <a:buFont typeface="Kepler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56236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0" y="1440"/>
            <a:ext cx="1233360" cy="6856560"/>
          </a:xfrm>
          <a:prstGeom prst="rect">
            <a:avLst/>
          </a:prstGeom>
          <a:solidFill>
            <a:srgbClr val="003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400440"/>
            <a:ext cx="609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4E63-DAB2-4E18-B81E-264B20EF380E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30"/>
          <p:cNvSpPr/>
          <p:nvPr/>
        </p:nvSpPr>
        <p:spPr>
          <a:xfrm>
            <a:off x="0" y="1440"/>
            <a:ext cx="7807320" cy="5027760"/>
          </a:xfrm>
          <a:prstGeom prst="rect">
            <a:avLst/>
          </a:prstGeom>
          <a:solidFill>
            <a:srgbClr val="003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utigerBold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676520" y="1219320"/>
            <a:ext cx="6781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-315360">
              <a:spcBef>
                <a:spcPts val="3251"/>
              </a:spcBef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  <a:p>
            <a:pPr lvl="1" marL="5760" indent="-4320">
              <a:spcBef>
                <a:spcPts val="3251"/>
              </a:spcBef>
              <a:buClr>
                <a:srgbClr val="000000"/>
              </a:buClr>
              <a:buFont typeface="Kepler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  <a:p>
            <a:pPr lvl="2" marL="217440" indent="-210240">
              <a:spcBef>
                <a:spcPts val="3251"/>
              </a:spcBef>
              <a:buClr>
                <a:srgbClr val="000000"/>
              </a:buClr>
              <a:buFont typeface="Kepler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  <a:p>
            <a:pPr lvl="3" marL="429120" indent="-210240">
              <a:spcBef>
                <a:spcPts val="3251"/>
              </a:spcBef>
              <a:buClr>
                <a:srgbClr val="000000"/>
              </a:buClr>
              <a:buSzPct val="90000"/>
              <a:buFont typeface="Kepler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  <a:p>
            <a:pPr lvl="4" marL="641160" indent="-210240">
              <a:spcBef>
                <a:spcPts val="3251"/>
              </a:spcBef>
              <a:buClr>
                <a:srgbClr val="000000"/>
              </a:buClr>
              <a:buSzPct val="90000"/>
              <a:buFont typeface="Kepler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  <a:p>
            <a:pPr lvl="5" marL="641160" indent="-210240">
              <a:spcBef>
                <a:spcPts val="3251"/>
              </a:spcBef>
              <a:buClr>
                <a:srgbClr val="000000"/>
              </a:buClr>
              <a:buSzPct val="90000"/>
              <a:buFont typeface="Kepler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  <a:p>
            <a:pPr lvl="6" marL="641160" indent="-210240">
              <a:spcBef>
                <a:spcPts val="3251"/>
              </a:spcBef>
              <a:buClr>
                <a:srgbClr val="000000"/>
              </a:buClr>
              <a:buSzPct val="90000"/>
              <a:buFont typeface="Kepler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45716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2880"/>
            <a:ext cx="5754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roduction to </a:t>
            </a: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WII</a:t>
            </a:r>
            <a:endParaRPr b="0" lang="en-US" sz="5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440" y="1523880"/>
            <a:ext cx="6745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14440" indent="0">
              <a:lnSpc>
                <a:spcPct val="10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Cost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  <a:p>
            <a:pPr marL="514440" indent="0">
              <a:lnSpc>
                <a:spcPct val="10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Causes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  <a:p>
            <a:pPr marL="514440" indent="0">
              <a:lnSpc>
                <a:spcPct val="10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</p:txBody>
      </p:sp>
      <p:pic>
        <p:nvPicPr>
          <p:cNvPr id="90" name="Picture 12" descr="C:\Documents and Settings\elyssa\Desktop\wwii\rosie.jpeg"/>
          <p:cNvPicPr/>
          <p:nvPr/>
        </p:nvPicPr>
        <p:blipFill>
          <a:blip r:embed="rId1"/>
          <a:stretch/>
        </p:blipFill>
        <p:spPr>
          <a:xfrm>
            <a:off x="4267080" y="1676520"/>
            <a:ext cx="37483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4"/>
          <p:cNvSpPr/>
          <p:nvPr/>
        </p:nvSpPr>
        <p:spPr>
          <a:xfrm>
            <a:off x="533520" y="6400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BD0A-C08A-4997-A8C4-F2D8138A283F}" type="slidenum">
              <a:rPr b="0" lang="en-US" sz="900" spc="-1" strike="noStrike">
                <a:solidFill>
                  <a:srgbClr val="ffffff"/>
                </a:solidFill>
                <a:latin typeface="Frutiger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7097f"/>
                </a:solidFill>
                <a:latin typeface="FrutigerBold"/>
              </a:rPr>
              <a:t>Why?</a:t>
            </a:r>
            <a:r>
              <a:rPr b="0" lang="en-US" sz="3000" spc="-1" strike="noStrike">
                <a:solidFill>
                  <a:srgbClr val="000000"/>
                </a:solidFill>
                <a:latin typeface="FrutigerBold"/>
              </a:rPr>
              <a:t> (underlying causes of WWII)</a:t>
            </a: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4394160" y="1273320"/>
            <a:ext cx="45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2140"/>
                </a:solidFill>
                <a:latin typeface="FrutigerBold"/>
              </a:rPr>
              <a:t>1. Treaty of Versailles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5334120" y="182880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Bold"/>
              </a:rPr>
              <a:t>A. Germany lost land to surrounding nations</a:t>
            </a:r>
            <a:endParaRPr b="0" lang="en-US" sz="2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5334120" y="25909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Bold"/>
              </a:rPr>
              <a:t>B. War Reparations</a:t>
            </a:r>
            <a:endParaRPr b="0" lang="en-US" sz="2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5791320" y="3124080"/>
            <a:ext cx="3124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Bold"/>
              </a:rPr>
              <a:t>1) Allies collect $ to pay back  war debts to U.S.</a:t>
            </a:r>
            <a:endParaRPr b="0" lang="en-US" sz="2000" spc="-1" strike="noStrike">
              <a:solidFill>
                <a:srgbClr val="000000"/>
              </a:solidFill>
              <a:latin typeface="FrutigerBold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Bold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Bold"/>
              </a:rPr>
              <a:t>2) Germany must pay $57 trillion (modern equivalent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FrutigerBold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Bold"/>
              </a:rPr>
              <a:t>3) Bankrupted the German economy &amp; embarrassed Germans</a:t>
            </a:r>
            <a:endParaRPr b="0" lang="en-US" sz="2000" spc="-1" strike="noStrike">
              <a:solidFill>
                <a:srgbClr val="000000"/>
              </a:solidFill>
              <a:latin typeface="FrutigerBold"/>
            </a:endParaRPr>
          </a:p>
        </p:txBody>
      </p:sp>
      <p:pic>
        <p:nvPicPr>
          <p:cNvPr id="167" name="Picture 14" descr="C:\Documents and Settings\elyssa\Desktop\wwii\versailles.jpeg"/>
          <p:cNvPicPr/>
          <p:nvPr/>
        </p:nvPicPr>
        <p:blipFill>
          <a:blip r:embed="rId1"/>
          <a:stretch/>
        </p:blipFill>
        <p:spPr>
          <a:xfrm>
            <a:off x="304920" y="1143000"/>
            <a:ext cx="4020840" cy="51069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5"/>
          <p:cNvSpPr/>
          <p:nvPr/>
        </p:nvSpPr>
        <p:spPr>
          <a:xfrm>
            <a:off x="124560" y="6339240"/>
            <a:ext cx="50529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eplerRegular"/>
              </a:rPr>
              <a:t>Lloyd George, Georges Clemenceau, and Woodrow Wil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KeplerRegular"/>
              </a:rPr>
              <a:t>during negotiations for the Treaty</a:t>
            </a:r>
            <a:endParaRPr b="0" lang="en-US" sz="1400" spc="-1" strike="noStrike">
              <a:solidFill>
                <a:srgbClr val="000000"/>
              </a:solidFill>
              <a:latin typeface="Frutiger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533520" y="6400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4A00-E251-4218-8357-8D5CD680F24A}" type="slidenum">
              <a:rPr b="0" lang="en-US" sz="900" spc="-1" strike="noStrike">
                <a:solidFill>
                  <a:srgbClr val="ffffff"/>
                </a:solidFill>
                <a:latin typeface="Frutiger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7097f"/>
                </a:solidFill>
                <a:latin typeface="FrutigerBold"/>
              </a:rPr>
              <a:t>Why?</a:t>
            </a:r>
            <a:r>
              <a:rPr b="0" lang="en-US" sz="3000" spc="-1" strike="noStrike">
                <a:solidFill>
                  <a:srgbClr val="000000"/>
                </a:solidFill>
                <a:latin typeface="FrutigerBold"/>
              </a:rPr>
              <a:t> (underlying causes of WWII)</a:t>
            </a: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4394160" y="1273320"/>
            <a:ext cx="47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2140"/>
                </a:solidFill>
                <a:latin typeface="FrutigerBold"/>
              </a:rPr>
              <a:t>2. World-wide Depression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5029200" y="18288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A. The Depression made Germany’s debt even  worse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5029200" y="3124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B. Desperate people turn to desperate leaders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5715000" y="4419720"/>
            <a:ext cx="312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1) Hitler seemed to provide solutions to Germany’s problem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pic>
        <p:nvPicPr>
          <p:cNvPr id="175" name="Picture 11" descr="C:\Documents and Settings\elyssa\Desktop\wwii\wallpaper.jpeg"/>
          <p:cNvPicPr/>
          <p:nvPr/>
        </p:nvPicPr>
        <p:blipFill>
          <a:blip r:embed="rId1"/>
          <a:stretch/>
        </p:blipFill>
        <p:spPr>
          <a:xfrm>
            <a:off x="533520" y="1295280"/>
            <a:ext cx="3898800" cy="52578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2"/>
          <p:cNvSpPr/>
          <p:nvPr/>
        </p:nvSpPr>
        <p:spPr>
          <a:xfrm>
            <a:off x="477000" y="6521040"/>
            <a:ext cx="470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92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- Wallpapering with German Deutchmarks</a:t>
            </a:r>
            <a:endParaRPr b="0" lang="en-US" sz="1600" spc="-1" strike="noStrike">
              <a:solidFill>
                <a:srgbClr val="000000"/>
              </a:solidFill>
              <a:latin typeface="Frutiger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533520" y="6400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C0C8-F17F-48F3-AD20-CD5556EFE38C}" type="slidenum">
              <a:rPr b="0" lang="en-US" sz="900" spc="-1" strike="noStrike">
                <a:solidFill>
                  <a:srgbClr val="ffffff"/>
                </a:solidFill>
                <a:latin typeface="Frutiger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7097f"/>
                </a:solidFill>
                <a:latin typeface="FrutigerBold"/>
              </a:rPr>
              <a:t>Why?</a:t>
            </a:r>
            <a:r>
              <a:rPr b="0" lang="en-US" sz="3000" spc="-1" strike="noStrike">
                <a:solidFill>
                  <a:srgbClr val="000000"/>
                </a:solidFill>
                <a:latin typeface="FrutigerBold"/>
              </a:rPr>
              <a:t> (underlying causes of WWII)</a:t>
            </a: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4394160" y="1273320"/>
            <a:ext cx="47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2140"/>
                </a:solidFill>
                <a:latin typeface="FrutigerBold"/>
              </a:rPr>
              <a:t>2. World-wide Depression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5638680" y="2057400"/>
            <a:ext cx="3124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2) Hitler provided </a:t>
            </a:r>
            <a:r>
              <a:rPr b="1" lang="en-US" sz="2400" spc="-1" strike="noStrike">
                <a:solidFill>
                  <a:srgbClr val="0038a8"/>
                </a:solidFill>
                <a:latin typeface="FrutigerBold"/>
              </a:rPr>
              <a:t>scapegoats</a:t>
            </a: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 for Germany’s problems (foreigners, Jews, communists, Roma (Gypsies), mentally ill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 3) </a:t>
            </a: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Kristallnacht</a:t>
            </a: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 - vandalism &amp; destruction of Jewish property &amp; synagogues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pic>
        <p:nvPicPr>
          <p:cNvPr id="181" name="Picture 9" descr="C:\Documents and Settings\elyssa\Desktop\WWI\kristallnacht.jpeg"/>
          <p:cNvPicPr/>
          <p:nvPr/>
        </p:nvPicPr>
        <p:blipFill>
          <a:blip r:embed="rId1"/>
          <a:srcRect l="22500" t="0" r="0" b="0"/>
          <a:stretch/>
        </p:blipFill>
        <p:spPr>
          <a:xfrm>
            <a:off x="228600" y="2057400"/>
            <a:ext cx="439092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4"/>
          <p:cNvSpPr/>
          <p:nvPr/>
        </p:nvSpPr>
        <p:spPr>
          <a:xfrm>
            <a:off x="533520" y="6400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C726-C827-44E4-B90B-F6490C46AAB7}" type="slidenum">
              <a:rPr b="0" lang="en-US" sz="900" spc="-1" strike="noStrike">
                <a:solidFill>
                  <a:srgbClr val="ffffff"/>
                </a:solidFill>
                <a:latin typeface="Frutiger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7097f"/>
                </a:solidFill>
                <a:latin typeface="FrutigerBold"/>
              </a:rPr>
              <a:t>Why?</a:t>
            </a:r>
            <a:endParaRPr b="0" lang="en-US" sz="38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67816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2140"/>
                </a:solidFill>
                <a:latin typeface="FrutigerBold"/>
              </a:rPr>
              <a:t>3.  Rise of Totalitarian Regimes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2057400" y="182880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Bold"/>
              </a:rPr>
              <a:t>A.  In a </a:t>
            </a:r>
            <a:r>
              <a:rPr b="0" lang="en-US" sz="2000" spc="-1" strike="noStrike" u="sng">
                <a:solidFill>
                  <a:srgbClr val="0038a8"/>
                </a:solidFill>
                <a:uFillTx/>
                <a:latin typeface="FrutigerBold"/>
              </a:rPr>
              <a:t>Totalitarian</a:t>
            </a:r>
            <a:r>
              <a:rPr b="0" lang="en-US" sz="2000" spc="-1" strike="noStrike">
                <a:solidFill>
                  <a:srgbClr val="000000"/>
                </a:solidFill>
                <a:latin typeface="FrutigerBold"/>
              </a:rPr>
              <a:t> country, individual rights are not viewed as important as the needs of the nation</a:t>
            </a:r>
            <a:endParaRPr b="0" lang="en-US" sz="2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3809880" y="3505320"/>
            <a:ext cx="2133720" cy="1676160"/>
          </a:xfrm>
          <a:prstGeom prst="octagon">
            <a:avLst>
              <a:gd name="adj" fmla="val 29287"/>
            </a:avLst>
          </a:prstGeom>
          <a:solidFill>
            <a:srgbClr val="0038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3886200" y="411480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rutigerBold"/>
              </a:rPr>
              <a:t>Totalitarianism</a:t>
            </a:r>
            <a:endParaRPr b="0" lang="en-US" sz="2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88" name="Line 11"/>
          <p:cNvSpPr/>
          <p:nvPr/>
        </p:nvSpPr>
        <p:spPr>
          <a:xfrm>
            <a:off x="495288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1295280" y="2743200"/>
            <a:ext cx="2362320" cy="1008720"/>
          </a:xfrm>
          <a:prstGeom prst="rect">
            <a:avLst/>
          </a:prstGeom>
          <a:solidFill>
            <a:srgbClr val="c41e3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utigerBold"/>
              </a:rPr>
              <a:t>Communist Dictatorship (USSR)</a:t>
            </a:r>
            <a:endParaRPr b="0" lang="en-US" sz="2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6172200" y="2819520"/>
            <a:ext cx="2362320" cy="1008720"/>
          </a:xfrm>
          <a:prstGeom prst="rect">
            <a:avLst/>
          </a:prstGeom>
          <a:solidFill>
            <a:srgbClr val="f9a7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Bold"/>
              </a:rPr>
              <a:t>Fascist Dictatorship (Germany, Italy)</a:t>
            </a:r>
            <a:endParaRPr b="0" lang="en-US" sz="2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3809880" y="5715000"/>
            <a:ext cx="2362320" cy="1008720"/>
          </a:xfrm>
          <a:prstGeom prst="rect">
            <a:avLst/>
          </a:prstGeom>
          <a:solidFill>
            <a:srgbClr val="6709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utigerBold"/>
              </a:rPr>
              <a:t>Military Dictatorship (Japan)</a:t>
            </a:r>
            <a:endParaRPr b="0" lang="en-US" sz="2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92" name="Line 15"/>
          <p:cNvSpPr/>
          <p:nvPr/>
        </p:nvSpPr>
        <p:spPr>
          <a:xfrm flipH="1" flipV="1">
            <a:off x="3657240" y="35809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93" name="Line 16"/>
          <p:cNvSpPr/>
          <p:nvPr/>
        </p:nvSpPr>
        <p:spPr>
          <a:xfrm flipV="1">
            <a:off x="5791320" y="35809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94" name="Text Box 18"/>
          <p:cNvSpPr/>
          <p:nvPr/>
        </p:nvSpPr>
        <p:spPr>
          <a:xfrm>
            <a:off x="6172200" y="3962520"/>
            <a:ext cx="2438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38a8"/>
                </a:solidFill>
                <a:uFillTx/>
                <a:latin typeface="FrutigerBold"/>
              </a:rPr>
              <a:t>Fascism</a:t>
            </a:r>
            <a:r>
              <a:rPr b="1" i="1" lang="en-US" sz="1600" spc="-1" strike="noStrike">
                <a:solidFill>
                  <a:srgbClr val="0038a8"/>
                </a:solidFill>
                <a:latin typeface="FrutigerBold"/>
              </a:rPr>
              <a:t>:</a:t>
            </a:r>
            <a:r>
              <a:rPr b="1" i="1" lang="en-US" sz="1600" spc="-1" strike="noStrike">
                <a:solidFill>
                  <a:srgbClr val="000000"/>
                </a:solidFill>
                <a:latin typeface="FrutigerBold"/>
              </a:rPr>
              <a:t> military government with based on racism &amp; nationalism with strong support from the business community</a:t>
            </a:r>
            <a:endParaRPr b="0" lang="en-US" sz="1600" spc="-1" strike="noStrike">
              <a:solidFill>
                <a:srgbClr val="000000"/>
              </a:solidFill>
              <a:latin typeface="Frutiger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533520" y="6400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1221-AB19-4BA7-B4DF-C55723BB233B}" type="slidenum">
              <a:rPr b="0" lang="en-US" sz="900" spc="-1" strike="noStrike">
                <a:solidFill>
                  <a:srgbClr val="ffffff"/>
                </a:solidFill>
                <a:latin typeface="Frutiger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7097f"/>
                </a:solidFill>
                <a:latin typeface="FrutigerBold"/>
              </a:rPr>
              <a:t>Why?</a:t>
            </a:r>
            <a:endParaRPr b="0" lang="en-US" sz="38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67816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2140"/>
                </a:solidFill>
                <a:latin typeface="FrutigerBold"/>
              </a:rPr>
              <a:t>4.  Isolationism of Major Powers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  <a:p>
            <a:pPr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981080" y="1600200"/>
            <a:ext cx="7162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A.  Why was the U.S. Isolationist?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1.  Great Depression (problems at home)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2.  Perceptions of WWI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2819520" y="3276720"/>
            <a:ext cx="58672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a.  WWI did not seem to solve much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b.  People began to think that we’d got into WWI for the wrong reasons  (greedy American businessmen!)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4"/>
          <p:cNvSpPr/>
          <p:nvPr/>
        </p:nvSpPr>
        <p:spPr>
          <a:xfrm>
            <a:off x="533520" y="6400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45F7-6DA7-43E8-9C86-895E796D670E}" type="slidenum">
              <a:rPr b="0" lang="en-US" sz="900" spc="-1" strike="noStrike">
                <a:solidFill>
                  <a:srgbClr val="ffffff"/>
                </a:solidFill>
                <a:latin typeface="Frutiger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7097f"/>
                </a:solidFill>
                <a:latin typeface="FrutigerBold"/>
              </a:rPr>
              <a:t>Why?</a:t>
            </a:r>
            <a:endParaRPr b="0" lang="en-US" sz="38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67816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2140"/>
                </a:solidFill>
                <a:latin typeface="FrutigerBold"/>
              </a:rPr>
              <a:t>4.  Isolationism of Major Powers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  <a:p>
            <a:pPr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2895480" y="3657600"/>
            <a:ext cx="23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1981080" y="1676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Bold"/>
              </a:rPr>
              <a:t>3.  Opposition to war (Pacifism)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2666880" y="2590920"/>
            <a:ext cx="586764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Bold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FrutigerBold"/>
              </a:rPr>
              <a:t>Washington Conference</a:t>
            </a:r>
            <a:r>
              <a:rPr b="0" lang="en-US" sz="2800" spc="-1" strike="noStrike">
                <a:solidFill>
                  <a:srgbClr val="000000"/>
                </a:solidFill>
                <a:latin typeface="FrutigerBold"/>
              </a:rPr>
              <a:t> -  Limits on size of country's navies 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Bold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FrutigerBold"/>
              </a:rPr>
              <a:t>Kellogg-Briand pact - </a:t>
            </a:r>
            <a:r>
              <a:rPr b="0" lang="en-US" sz="2800" spc="-1" strike="noStrike">
                <a:solidFill>
                  <a:srgbClr val="000000"/>
                </a:solidFill>
                <a:latin typeface="FrutigerBold"/>
              </a:rPr>
              <a:t>condemned war as a way to solving conflicts 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4"/>
          <p:cNvSpPr/>
          <p:nvPr/>
        </p:nvSpPr>
        <p:spPr>
          <a:xfrm>
            <a:off x="533520" y="6400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BD50-C059-4E3A-BAC0-8A09B9A1CA77}" type="slidenum">
              <a:rPr b="0" lang="en-US" sz="900" spc="-1" strike="noStrike">
                <a:solidFill>
                  <a:srgbClr val="ffffff"/>
                </a:solidFill>
                <a:latin typeface="Frutiger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7097f"/>
                </a:solidFill>
                <a:latin typeface="FrutigerBold"/>
              </a:rPr>
              <a:t>Why?</a:t>
            </a:r>
            <a:endParaRPr b="0" lang="en-US" sz="38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67816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2140"/>
                </a:solidFill>
                <a:latin typeface="FrutigerBold"/>
              </a:rPr>
              <a:t>4.  Isolationism of Major Powers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  <a:p>
            <a:pPr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828800" y="19051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B.  This led to policies of “Appeasement”  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2362320" y="23605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1. </a:t>
            </a:r>
            <a:r>
              <a:rPr b="1" lang="en-US" sz="2400" spc="-1" strike="noStrike" u="sng">
                <a:solidFill>
                  <a:srgbClr val="0038a8"/>
                </a:solidFill>
                <a:uFillTx/>
                <a:latin typeface="FrutigerBold"/>
              </a:rPr>
              <a:t>Appeasement</a:t>
            </a:r>
            <a:r>
              <a:rPr b="1" lang="en-US" sz="2400" spc="-1" strike="noStrike">
                <a:solidFill>
                  <a:srgbClr val="0038a8"/>
                </a:solidFill>
                <a:latin typeface="FrutigerBold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 give dictators what they want and hope that they won’t want anything else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2895480" y="3657600"/>
            <a:ext cx="23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2438280" y="3625200"/>
            <a:ext cx="594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2.  Begins with Japanese invasion of Manchuria, Italian invasion of Ethiopia, and continues with Hitler . . .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533520" y="6400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D3A4-43DC-4B8A-B890-FDA6E81D08FE}" type="slidenum">
              <a:rPr b="0" lang="en-US" sz="900" spc="-1" strike="noStrike">
                <a:solidFill>
                  <a:srgbClr val="ffffff"/>
                </a:solidFill>
                <a:latin typeface="Frutiger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8a8"/>
                </a:solidFill>
                <a:latin typeface="FrutigerBold"/>
              </a:rPr>
              <a:t>So What Was Hitler Asking For?</a:t>
            </a:r>
            <a:endParaRPr b="0" lang="en-US" sz="3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676160" y="12189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Bold"/>
              </a:rPr>
              <a:t>Return of German Speaking Lands - “</a:t>
            </a:r>
            <a:r>
              <a:rPr b="1" lang="en-US" sz="2200" spc="-1" strike="noStrike">
                <a:solidFill>
                  <a:srgbClr val="000000"/>
                </a:solidFill>
                <a:latin typeface="FrutigerBold"/>
              </a:rPr>
              <a:t>Lebensraum</a:t>
            </a:r>
            <a:r>
              <a:rPr b="0" lang="en-US" sz="2200" spc="-1" strike="noStrike">
                <a:solidFill>
                  <a:srgbClr val="000000"/>
                </a:solidFill>
                <a:latin typeface="FrutigerBold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5943600" y="30481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Austria</a:t>
            </a: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 - Peacefully Annexed in 1938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pic>
        <p:nvPicPr>
          <p:cNvPr id="217" name="Picture 6" descr="C:\Documents and Settings\elyssa\Desktop\wwii\czech2.jpeg"/>
          <p:cNvPicPr/>
          <p:nvPr/>
        </p:nvPicPr>
        <p:blipFill>
          <a:blip r:embed="rId1"/>
          <a:stretch/>
        </p:blipFill>
        <p:spPr>
          <a:xfrm>
            <a:off x="304920" y="1676520"/>
            <a:ext cx="5511600" cy="405612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7"/>
          <p:cNvSpPr/>
          <p:nvPr/>
        </p:nvSpPr>
        <p:spPr>
          <a:xfrm>
            <a:off x="1295280" y="5791320"/>
            <a:ext cx="4496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eplerRegular"/>
              </a:rPr>
              <a:t>German Troops Parade in Streets of Czechoslovakian Town, ca. 1939</a:t>
            </a:r>
            <a:endParaRPr b="0" lang="en-US" sz="1600" spc="-1" strike="noStrike">
              <a:solidFill>
                <a:srgbClr val="000000"/>
              </a:solidFill>
              <a:latin typeface="Frutiger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4"/>
          <p:cNvSpPr/>
          <p:nvPr/>
        </p:nvSpPr>
        <p:spPr>
          <a:xfrm>
            <a:off x="533520" y="6400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FDF5-FBB7-46B8-8EF6-8685752CA046}" type="slidenum">
              <a:rPr b="0" lang="en-US" sz="900" spc="-1" strike="noStrike">
                <a:solidFill>
                  <a:srgbClr val="ffffff"/>
                </a:solidFill>
                <a:latin typeface="Frutiger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8a8"/>
                </a:solidFill>
                <a:latin typeface="FrutigerBold"/>
              </a:rPr>
              <a:t>So What Was Hitler Asking For?</a:t>
            </a:r>
            <a:endParaRPr b="0" lang="en-US" sz="3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676160" y="12189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Bold"/>
              </a:rPr>
              <a:t>Return of German Speaking Lands - “</a:t>
            </a:r>
            <a:r>
              <a:rPr b="1" lang="en-US" sz="2200" spc="-1" strike="noStrike">
                <a:solidFill>
                  <a:srgbClr val="000000"/>
                </a:solidFill>
                <a:latin typeface="FrutigerBold"/>
              </a:rPr>
              <a:t>Lebensraum</a:t>
            </a:r>
            <a:r>
              <a:rPr b="0" lang="en-US" sz="2200" spc="-1" strike="noStrike">
                <a:solidFill>
                  <a:srgbClr val="000000"/>
                </a:solidFill>
                <a:latin typeface="FrutigerBold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5867280" y="1676520"/>
            <a:ext cx="304812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Sudentenland</a:t>
            </a: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 - (now part of Czech Republic) 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Munich Conference</a:t>
            </a: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 - Great Britain &amp; France give to Hitler in return for peace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Hitler then invades the rest of Czechoslovakia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pic>
        <p:nvPicPr>
          <p:cNvPr id="223" name="Picture 6" descr="C:\Documents and Settings\elyssa\Desktop\wwii\czech2.jpeg"/>
          <p:cNvPicPr/>
          <p:nvPr/>
        </p:nvPicPr>
        <p:blipFill>
          <a:blip r:embed="rId1"/>
          <a:stretch/>
        </p:blipFill>
        <p:spPr>
          <a:xfrm>
            <a:off x="304920" y="1676520"/>
            <a:ext cx="5511600" cy="40561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7"/>
          <p:cNvSpPr/>
          <p:nvPr/>
        </p:nvSpPr>
        <p:spPr>
          <a:xfrm>
            <a:off x="1295280" y="5791320"/>
            <a:ext cx="4496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eplerRegular"/>
              </a:rPr>
              <a:t>German Troops Parade in Streets of Czechoslovakian Town, ca. 1939</a:t>
            </a:r>
            <a:endParaRPr b="0" lang="en-US" sz="1600" spc="-1" strike="noStrike">
              <a:solidFill>
                <a:srgbClr val="000000"/>
              </a:solidFill>
              <a:latin typeface="Frutiger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4"/>
          <p:cNvSpPr/>
          <p:nvPr/>
        </p:nvSpPr>
        <p:spPr>
          <a:xfrm>
            <a:off x="533520" y="6400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0B07-AD77-432B-BB1E-72A81CF84175}" type="slidenum">
              <a:rPr b="0" lang="en-US" sz="900" spc="-1" strike="noStrike">
                <a:solidFill>
                  <a:srgbClr val="ffffff"/>
                </a:solidFill>
                <a:latin typeface="Frutiger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8a8"/>
                </a:solidFill>
                <a:latin typeface="FrutigerBold"/>
              </a:rPr>
              <a:t>So What Was Hitler Asking For?</a:t>
            </a:r>
            <a:endParaRPr b="0" lang="en-US" sz="3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676160" y="12189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Return of German Speaking Lands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5943600" y="167652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Nonaggression Pact</a:t>
            </a: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 Russia stays out of the war in return for 1/2 of Poland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1219320" y="5181480"/>
            <a:ext cx="48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eplerRegular"/>
              </a:rPr>
              <a:t>Hitler's triumphal entry into Danzig, Poland 1939</a:t>
            </a:r>
            <a:endParaRPr b="0" lang="en-US" sz="1600" spc="-1" strike="noStrike">
              <a:solidFill>
                <a:srgbClr val="000000"/>
              </a:solidFill>
              <a:latin typeface="FrutigerBold"/>
            </a:endParaRPr>
          </a:p>
        </p:txBody>
      </p:sp>
      <p:pic>
        <p:nvPicPr>
          <p:cNvPr id="230" name="Picture 8" descr="C:\Documents and Settings\elyssa\Desktop\wwii\hitlerpoland.jpeg"/>
          <p:cNvPicPr/>
          <p:nvPr/>
        </p:nvPicPr>
        <p:blipFill>
          <a:blip r:embed="rId1"/>
          <a:stretch/>
        </p:blipFill>
        <p:spPr>
          <a:xfrm>
            <a:off x="228600" y="1676520"/>
            <a:ext cx="5715000" cy="33400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0"/>
          <p:cNvSpPr/>
          <p:nvPr/>
        </p:nvSpPr>
        <p:spPr>
          <a:xfrm>
            <a:off x="5943600" y="373392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Great Britain &amp; France finally declare war on Germany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533520" y="6400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693D-6B60-4F90-9262-84477ABBA62A}" type="slidenum">
              <a:rPr b="0" lang="en-US" sz="900" spc="-1" strike="noStrike">
                <a:solidFill>
                  <a:srgbClr val="ffffff"/>
                </a:solidFill>
                <a:latin typeface="Frutiger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7097f"/>
                </a:solidFill>
                <a:latin typeface="Tahoma"/>
              </a:rPr>
              <a:t>Quick Facts (write 2-3)</a:t>
            </a: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756800" y="1119240"/>
            <a:ext cx="270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2140"/>
                </a:solidFill>
                <a:latin typeface="FrutigerBold"/>
              </a:rPr>
              <a:t>A. War Costs</a:t>
            </a:r>
            <a:endParaRPr b="0" lang="en-US" sz="32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2209680" y="1752480"/>
            <a:ext cx="6400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FrutigerBold"/>
              <a:buAutoNum type="arabicPeriod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US Debt 1940 - $9 bill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US Debt 1945 - $98 billion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  <a:p>
            <a:pPr marL="457200" indent="-457200">
              <a:buClr>
                <a:srgbClr val="000000"/>
              </a:buClr>
              <a:buFont typeface="FrutigerBold"/>
              <a:buAutoNum type="arabicPeriod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2286000" y="2666880"/>
            <a:ext cx="5791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4640" indent="-404640"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The war cost $330 billion --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FrutigerBold"/>
              </a:rPr>
              <a:t>10 times</a:t>
            </a: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 the cost of WWI &amp; as much as </a:t>
            </a:r>
            <a:r>
              <a:rPr b="0" i="1" lang="en-US" sz="2400" spc="-1" strike="noStrike">
                <a:solidFill>
                  <a:srgbClr val="000000"/>
                </a:solidFill>
                <a:latin typeface="FrutigerBold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 previous federal spending since 1776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  <a:p>
            <a:pPr marL="404640" indent="-4046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4"/>
          <p:cNvSpPr/>
          <p:nvPr/>
        </p:nvSpPr>
        <p:spPr>
          <a:xfrm>
            <a:off x="533520" y="6400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5245-C66E-449D-A6EF-43AE38AA3DDB}" type="slidenum">
              <a:rPr b="0" lang="en-US" sz="900" spc="-1" strike="noStrike">
                <a:solidFill>
                  <a:srgbClr val="ffffff"/>
                </a:solidFill>
                <a:latin typeface="Frutiger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8a8"/>
                </a:solidFill>
                <a:latin typeface="FrutigerBold"/>
              </a:rPr>
              <a:t>How Did Hitler Make War?</a:t>
            </a:r>
            <a:endParaRPr b="0" lang="en-US" sz="3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676160" y="12189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Blitzkrieg “Lightning War”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6095880" y="1752480"/>
            <a:ext cx="30481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In the next year, Hitler invade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Denmark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Norway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The Netherlands, 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France  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600200" y="62485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eplerRegular"/>
              </a:rPr>
              <a:t>Hitler in Paris</a:t>
            </a:r>
            <a:endParaRPr b="0" lang="en-US" sz="1600" spc="-1" strike="noStrike">
              <a:solidFill>
                <a:srgbClr val="000000"/>
              </a:solidFill>
              <a:latin typeface="FrutigerBold"/>
            </a:endParaRPr>
          </a:p>
        </p:txBody>
      </p:sp>
      <p:pic>
        <p:nvPicPr>
          <p:cNvPr id="237" name="Picture 9" descr="C:\Documents and Settings\elyssa\Desktop\wwii\hitlerfrance.jpeg"/>
          <p:cNvPicPr/>
          <p:nvPr/>
        </p:nvPicPr>
        <p:blipFill>
          <a:blip r:embed="rId1"/>
          <a:srcRect l="0" t="15000" r="0" b="0"/>
          <a:stretch/>
        </p:blipFill>
        <p:spPr>
          <a:xfrm>
            <a:off x="1981080" y="1676520"/>
            <a:ext cx="37926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4"/>
          <p:cNvSpPr/>
          <p:nvPr/>
        </p:nvSpPr>
        <p:spPr>
          <a:xfrm>
            <a:off x="533520" y="6400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DCAC-553E-4EE8-B9D6-AAC5824698F4}" type="slidenum">
              <a:rPr b="0" lang="en-US" sz="900" spc="-1" strike="noStrike">
                <a:solidFill>
                  <a:srgbClr val="ffffff"/>
                </a:solidFill>
                <a:latin typeface="Frutiger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8a8"/>
                </a:solidFill>
                <a:latin typeface="FrutigerBold"/>
              </a:rPr>
              <a:t>US Assistance</a:t>
            </a: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Roosevelt provided aid to the Allies: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4419720" y="1752480"/>
            <a:ext cx="45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Lend-Lease - 1939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5105520" y="228600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 “lent” war materials to cash-strapped Great Britain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pic>
        <p:nvPicPr>
          <p:cNvPr id="243" name="Picture 8" descr="C:\Documents and Settings\elyssa\Desktop\wwii\londonfirefighter.jpeg"/>
          <p:cNvPicPr/>
          <p:nvPr/>
        </p:nvPicPr>
        <p:blipFill>
          <a:blip r:embed="rId1"/>
          <a:stretch/>
        </p:blipFill>
        <p:spPr>
          <a:xfrm>
            <a:off x="838080" y="1752480"/>
            <a:ext cx="3517920" cy="44211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9"/>
          <p:cNvSpPr/>
          <p:nvPr/>
        </p:nvSpPr>
        <p:spPr>
          <a:xfrm>
            <a:off x="1295280" y="632448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KeplerRegular"/>
              </a:rPr>
              <a:t>London Firefighter Tackles an Air Raid Blaze</a:t>
            </a:r>
            <a:endParaRPr b="0" lang="en-US" sz="1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4591080" y="4038480"/>
            <a:ext cx="45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Atlantic Charter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5276880" y="457200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 secretly meets with England to commit to  defeating Germany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4"/>
          <p:cNvSpPr/>
          <p:nvPr/>
        </p:nvSpPr>
        <p:spPr>
          <a:xfrm>
            <a:off x="533520" y="6400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EB40-4A26-4FC0-856B-56881355934B}" type="slidenum">
              <a:rPr b="0" lang="en-US" sz="900" spc="-1" strike="noStrike">
                <a:solidFill>
                  <a:srgbClr val="ffffff"/>
                </a:solidFill>
                <a:latin typeface="Frutiger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8a8"/>
                </a:solidFill>
                <a:latin typeface="FrutigerBold"/>
              </a:rPr>
              <a:t>Meanwhile … in the Pacific</a:t>
            </a: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676520" y="1219320"/>
            <a:ext cx="7238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rutigerBold"/>
              </a:rPr>
              <a:t>Pearl Harbor: “a date which will live in infamy”</a:t>
            </a:r>
            <a:endParaRPr b="0" lang="en-US" sz="2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1295280" y="5562720"/>
            <a:ext cx="42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KeplerRegular"/>
              </a:rPr>
              <a:t>USS Arizona Sinking in Pearl Harbor</a:t>
            </a:r>
            <a:endParaRPr b="0" lang="en-US" sz="1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4724280" y="17524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5334120" y="2286000"/>
            <a:ext cx="350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Surprise attack by the Japanese on American forces in Pearl Harbor, Hawaii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4648320" y="4191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Effect?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5105520" y="47242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US declares war on Japan &amp; other Axis powers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pic>
        <p:nvPicPr>
          <p:cNvPr id="255" name="Picture 15" descr="C:\Documents and Settings\elyssa\Desktop\wwii\pearl2.jpeg"/>
          <p:cNvPicPr/>
          <p:nvPr/>
        </p:nvPicPr>
        <p:blipFill>
          <a:blip r:embed="rId1"/>
          <a:stretch/>
        </p:blipFill>
        <p:spPr>
          <a:xfrm>
            <a:off x="152280" y="1752480"/>
            <a:ext cx="449604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533520" y="6400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B632-29A1-41B5-AFCD-DE0D3EEBB2D4}" type="slidenum">
              <a:rPr b="0" lang="en-US" sz="900" spc="-1" strike="noStrike">
                <a:solidFill>
                  <a:srgbClr val="ffffff"/>
                </a:solidFill>
                <a:latin typeface="Frutiger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7097f"/>
                </a:solidFill>
                <a:latin typeface="Tahoma"/>
              </a:rPr>
              <a:t>Quick Facts (write 2-3)</a:t>
            </a: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98" name="Text Box 2053"/>
          <p:cNvSpPr/>
          <p:nvPr/>
        </p:nvSpPr>
        <p:spPr>
          <a:xfrm>
            <a:off x="1676520" y="12193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2140"/>
                </a:solidFill>
                <a:latin typeface="FrutigerBold"/>
              </a:rPr>
              <a:t>B. Human Costs</a:t>
            </a:r>
            <a:endParaRPr b="0" lang="en-US" sz="3200" spc="-1" strike="noStrike">
              <a:solidFill>
                <a:srgbClr val="000000"/>
              </a:solidFill>
              <a:latin typeface="FrutigerBold"/>
            </a:endParaRPr>
          </a:p>
        </p:txBody>
      </p:sp>
      <p:pic>
        <p:nvPicPr>
          <p:cNvPr id="99" name="Picture 2056" descr="E:\Work\ETHS\US Hist 1 Lvl\14. WWII\GraphHumanCosts.jpg"/>
          <p:cNvPicPr/>
          <p:nvPr/>
        </p:nvPicPr>
        <p:blipFill>
          <a:blip r:embed="rId1"/>
          <a:stretch/>
        </p:blipFill>
        <p:spPr>
          <a:xfrm>
            <a:off x="1523880" y="1066680"/>
            <a:ext cx="7418520" cy="561816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2059"/>
          <p:cNvSpPr/>
          <p:nvPr/>
        </p:nvSpPr>
        <p:spPr>
          <a:xfrm>
            <a:off x="1905120" y="5791320"/>
            <a:ext cx="6858000" cy="380880"/>
          </a:xfrm>
          <a:prstGeom prst="flowChartProcess">
            <a:avLst/>
          </a:prstGeom>
          <a:noFill/>
          <a:ln w="25560">
            <a:solidFill>
              <a:srgbClr val="0038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01" name="AutoShape 2060"/>
          <p:cNvSpPr/>
          <p:nvPr/>
        </p:nvSpPr>
        <p:spPr>
          <a:xfrm>
            <a:off x="1828800" y="3657600"/>
            <a:ext cx="6858000" cy="228600"/>
          </a:xfrm>
          <a:prstGeom prst="flowChartProcess">
            <a:avLst/>
          </a:prstGeom>
          <a:noFill/>
          <a:ln w="25560">
            <a:solidFill>
              <a:srgbClr val="0038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533520" y="6400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1FE8-8FAA-4965-8640-D51E0C491845}" type="slidenum">
              <a:rPr b="0" lang="en-US" sz="900" spc="-1" strike="noStrike">
                <a:solidFill>
                  <a:srgbClr val="ffffff"/>
                </a:solidFill>
                <a:latin typeface="Frutiger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7097f"/>
                </a:solidFill>
                <a:latin typeface="Tahoma"/>
              </a:rPr>
              <a:t>Quick Facts (write 2-3)</a:t>
            </a: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676520" y="12193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2140"/>
                </a:solidFill>
                <a:latin typeface="FrutigerBold"/>
              </a:rPr>
              <a:t>B. Human Costs</a:t>
            </a:r>
            <a:endParaRPr b="0" lang="en-US" sz="32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232000" y="172404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FrutigerBold"/>
              <a:buAutoNum type="arabicPeriod"/>
              <a:tabLst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FrutigerBold"/>
              </a:rPr>
              <a:t>50 million</a:t>
            </a: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 people died (compared to 15 million in WWI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229840" y="2589840"/>
            <a:ext cx="646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39840" indent="-339840"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21.3 million Russians (7.7 million civilians)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255760" y="3289320"/>
            <a:ext cx="698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39840" indent="-339840"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11 million died as a result of the HOLOCAU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(6 million Jews + 5 million others)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533520" y="6400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D25F-D560-443C-AADE-705B3BC675C4}" type="slidenum">
              <a:rPr b="0" lang="en-US" sz="900" spc="-1" strike="noStrike">
                <a:solidFill>
                  <a:srgbClr val="ffffff"/>
                </a:solidFill>
                <a:latin typeface="Frutiger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7097f"/>
                </a:solidFill>
                <a:latin typeface="Tahoma"/>
              </a:rPr>
              <a:t>When?</a:t>
            </a: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10" name="Line 23"/>
          <p:cNvSpPr/>
          <p:nvPr/>
        </p:nvSpPr>
        <p:spPr>
          <a:xfrm>
            <a:off x="1905120" y="3124080"/>
            <a:ext cx="0" cy="1028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11" name="Line 26"/>
          <p:cNvSpPr/>
          <p:nvPr/>
        </p:nvSpPr>
        <p:spPr>
          <a:xfrm>
            <a:off x="2209680" y="3124080"/>
            <a:ext cx="0" cy="1028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12" name="Text Box 27"/>
          <p:cNvSpPr/>
          <p:nvPr/>
        </p:nvSpPr>
        <p:spPr>
          <a:xfrm>
            <a:off x="1515600" y="25909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Bold"/>
              </a:rPr>
              <a:t>1939</a:t>
            </a:r>
            <a:endParaRPr b="0" lang="en-US" sz="2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13" name="Text Box 28"/>
          <p:cNvSpPr/>
          <p:nvPr/>
        </p:nvSpPr>
        <p:spPr>
          <a:xfrm>
            <a:off x="1295280" y="4292640"/>
            <a:ext cx="12956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Bold"/>
              </a:rPr>
              <a:t>Sept.1</a:t>
            </a:r>
            <a:r>
              <a:rPr b="0" lang="en-US" sz="1800" spc="-1" strike="noStrike">
                <a:solidFill>
                  <a:srgbClr val="000000"/>
                </a:solidFill>
                <a:latin typeface="FrutigerBold"/>
              </a:rPr>
              <a:t> - Germany invades Poland (official start to the war</a:t>
            </a:r>
            <a:r>
              <a:rPr b="0" lang="en-US" sz="1600" spc="-1" strike="noStrike">
                <a:solidFill>
                  <a:srgbClr val="000000"/>
                </a:solidFill>
                <a:latin typeface="FrutigerBold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14" name="Line 29"/>
          <p:cNvSpPr/>
          <p:nvPr/>
        </p:nvSpPr>
        <p:spPr>
          <a:xfrm>
            <a:off x="4343400" y="3124080"/>
            <a:ext cx="0" cy="1028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15" name="Text Box 31"/>
          <p:cNvSpPr/>
          <p:nvPr/>
        </p:nvSpPr>
        <p:spPr>
          <a:xfrm>
            <a:off x="2590920" y="4267080"/>
            <a:ext cx="129528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Bold"/>
              </a:rPr>
              <a:t>Sept. 3</a:t>
            </a:r>
            <a:r>
              <a:rPr b="0" lang="en-US" sz="1800" spc="-1" strike="noStrike">
                <a:solidFill>
                  <a:srgbClr val="000000"/>
                </a:solidFill>
                <a:latin typeface="FrutigerBold"/>
              </a:rPr>
              <a:t> -Britain &amp; France declare war on Germany</a:t>
            </a:r>
            <a:endParaRPr b="0" lang="en-US" sz="1800" spc="-1" strike="noStrike">
              <a:solidFill>
                <a:srgbClr val="000000"/>
              </a:solidFill>
              <a:latin typeface="FrutigerBold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Bold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utigerBold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16" name="Line 32"/>
          <p:cNvSpPr/>
          <p:nvPr/>
        </p:nvSpPr>
        <p:spPr>
          <a:xfrm>
            <a:off x="1371600" y="335268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17" name="Line 34"/>
          <p:cNvSpPr/>
          <p:nvPr/>
        </p:nvSpPr>
        <p:spPr>
          <a:xfrm flipH="1" flipV="1">
            <a:off x="2285640" y="40381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18" name="Line 35"/>
          <p:cNvSpPr/>
          <p:nvPr/>
        </p:nvSpPr>
        <p:spPr>
          <a:xfrm>
            <a:off x="8458200" y="3124080"/>
            <a:ext cx="0" cy="1028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19" name="Text Box 37"/>
          <p:cNvSpPr/>
          <p:nvPr/>
        </p:nvSpPr>
        <p:spPr>
          <a:xfrm>
            <a:off x="3886200" y="4267080"/>
            <a:ext cx="16002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Bold"/>
              </a:rPr>
              <a:t>Dec. 7</a:t>
            </a:r>
            <a:r>
              <a:rPr b="0" lang="en-US" sz="1800" spc="-1" strike="noStrike">
                <a:solidFill>
                  <a:srgbClr val="000000"/>
                </a:solidFill>
                <a:latin typeface="FrutigerBold"/>
              </a:rPr>
              <a:t> – Japan bombs Pearl Harbor; US enters the War</a:t>
            </a:r>
            <a:endParaRPr b="0" lang="en-US" sz="18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20" name="Text Box 38"/>
          <p:cNvSpPr/>
          <p:nvPr/>
        </p:nvSpPr>
        <p:spPr>
          <a:xfrm>
            <a:off x="3954240" y="26668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Bold"/>
              </a:rPr>
              <a:t>1941</a:t>
            </a:r>
            <a:endParaRPr b="0" lang="en-US" sz="2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21" name="Line 39"/>
          <p:cNvSpPr/>
          <p:nvPr/>
        </p:nvSpPr>
        <p:spPr>
          <a:xfrm>
            <a:off x="7924680" y="3124080"/>
            <a:ext cx="0" cy="1028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22" name="Text Box 40"/>
          <p:cNvSpPr/>
          <p:nvPr/>
        </p:nvSpPr>
        <p:spPr>
          <a:xfrm>
            <a:off x="6477120" y="4267080"/>
            <a:ext cx="1295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Bold"/>
              </a:rPr>
              <a:t>May </a:t>
            </a:r>
            <a:r>
              <a:rPr b="0" lang="en-US" sz="1800" spc="-1" strike="noStrike">
                <a:solidFill>
                  <a:srgbClr val="000000"/>
                </a:solidFill>
                <a:latin typeface="FrutigerBold"/>
              </a:rPr>
              <a:t>- Germans Surrender</a:t>
            </a:r>
            <a:endParaRPr b="0" lang="en-US" sz="18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23" name="Text Box 41"/>
          <p:cNvSpPr/>
          <p:nvPr/>
        </p:nvSpPr>
        <p:spPr>
          <a:xfrm>
            <a:off x="7848720" y="4267080"/>
            <a:ext cx="129528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Bold"/>
              </a:rPr>
              <a:t>Sept.</a:t>
            </a:r>
            <a:r>
              <a:rPr b="0" lang="en-US" sz="1800" spc="-1" strike="noStrike">
                <a:solidFill>
                  <a:srgbClr val="000000"/>
                </a:solidFill>
                <a:latin typeface="FrutigerBold"/>
              </a:rPr>
              <a:t> - Atomic Bombing of Hiroshima &amp; Nagasaki, Japanese Surrender</a:t>
            </a:r>
            <a:endParaRPr b="0" lang="en-US" sz="18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24" name="Text Box 42"/>
          <p:cNvSpPr/>
          <p:nvPr/>
        </p:nvSpPr>
        <p:spPr>
          <a:xfrm>
            <a:off x="7535520" y="26668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Bold"/>
              </a:rPr>
              <a:t>1945</a:t>
            </a:r>
            <a:endParaRPr b="0" lang="en-US" sz="2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25" name="Line 43"/>
          <p:cNvSpPr/>
          <p:nvPr/>
        </p:nvSpPr>
        <p:spPr>
          <a:xfrm flipV="1">
            <a:off x="7162920" y="40381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26" name="Text Box 44"/>
          <p:cNvSpPr/>
          <p:nvPr/>
        </p:nvSpPr>
        <p:spPr>
          <a:xfrm>
            <a:off x="1676520" y="1066680"/>
            <a:ext cx="5486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1939-1945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utigerBold"/>
              </a:rPr>
              <a:t>US involvement 1941-1945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533520" y="6400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091C-C9CE-4F02-8AD4-3CAE53C32E92}" type="slidenum">
              <a:rPr b="0" lang="en-US" sz="900" spc="-1" strike="noStrike">
                <a:solidFill>
                  <a:srgbClr val="ffffff"/>
                </a:solidFill>
                <a:latin typeface="Frutiger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7097f"/>
                </a:solidFill>
                <a:latin typeface="Tahoma"/>
              </a:rPr>
              <a:t>Who?</a:t>
            </a:r>
            <a:endParaRPr b="0" lang="en-US" sz="3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2280960" y="1295280"/>
            <a:ext cx="14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dd2140"/>
                </a:solidFill>
                <a:uFillTx/>
                <a:latin typeface="FrutigerBold"/>
              </a:rPr>
              <a:t>Allies</a:t>
            </a:r>
            <a:endParaRPr b="0" lang="en-US" sz="3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6541920" y="1268280"/>
            <a:ext cx="112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dd2140"/>
                </a:solidFill>
                <a:uFillTx/>
                <a:latin typeface="FrutigerBold"/>
              </a:rPr>
              <a:t>Axis</a:t>
            </a:r>
            <a:endParaRPr b="0" lang="en-US" sz="36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1895400" y="2494080"/>
            <a:ext cx="290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Bold"/>
              </a:rPr>
              <a:t>Great Britain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2325600" y="2971800"/>
            <a:ext cx="1789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Bold"/>
              </a:rPr>
              <a:t>Russia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Bold"/>
              </a:rPr>
              <a:t>Greece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Bold"/>
              </a:rPr>
              <a:t>Serbia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Bold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6324480" y="2666880"/>
            <a:ext cx="164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Bold"/>
              </a:rPr>
              <a:t>Germany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34" name="Text Box 20"/>
          <p:cNvSpPr/>
          <p:nvPr/>
        </p:nvSpPr>
        <p:spPr>
          <a:xfrm>
            <a:off x="6705720" y="3276720"/>
            <a:ext cx="83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Bold"/>
              </a:rPr>
              <a:t>Italy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6573600" y="4038480"/>
            <a:ext cx="11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Bold"/>
              </a:rPr>
              <a:t>Japan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1716120" y="184644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Bold"/>
              </a:rPr>
              <a:t>(major powers)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37" name="Text Box 24"/>
          <p:cNvSpPr/>
          <p:nvPr/>
        </p:nvSpPr>
        <p:spPr>
          <a:xfrm>
            <a:off x="5334120" y="19051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Bold"/>
              </a:rPr>
              <a:t>(major powers)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38" name="Line 26"/>
          <p:cNvSpPr/>
          <p:nvPr/>
        </p:nvSpPr>
        <p:spPr>
          <a:xfrm>
            <a:off x="5029200" y="1143000"/>
            <a:ext cx="0" cy="51055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533520" y="6400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49AE-2805-496F-8161-00659F5ED0DB}" type="slidenum">
              <a:rPr b="0" lang="en-US" sz="900" spc="-1" strike="noStrike">
                <a:solidFill>
                  <a:srgbClr val="ffffff"/>
                </a:solidFill>
                <a:latin typeface="Frutiger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7816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d2140"/>
                </a:solidFill>
                <a:latin typeface="FrutigerBold"/>
              </a:rPr>
              <a:t>Major Leaders</a:t>
            </a:r>
            <a:endParaRPr b="0" lang="en-US" sz="3800" spc="-1" strike="noStrike">
              <a:solidFill>
                <a:srgbClr val="000000"/>
              </a:solidFill>
              <a:latin typeface="FrutigerBold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1335240" cy="1981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4724280" y="609480"/>
            <a:ext cx="4222800" cy="33339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573640" y="1562040"/>
            <a:ext cx="19332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097f"/>
                </a:solidFill>
                <a:latin typeface="FrutigerBold"/>
              </a:rPr>
              <a:t>Adolf Hitler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Bold"/>
              </a:rPr>
              <a:t>Nazi Germany</a:t>
            </a:r>
            <a:endParaRPr b="0" lang="en-US" sz="2000" spc="-1" strike="noStrike">
              <a:solidFill>
                <a:srgbClr val="000000"/>
              </a:solidFill>
              <a:latin typeface="FrutigerBold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3"/>
          <a:stretch/>
        </p:blipFill>
        <p:spPr>
          <a:xfrm>
            <a:off x="2057400" y="3484440"/>
            <a:ext cx="2305080" cy="33735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4371840" y="5237280"/>
            <a:ext cx="2715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097f"/>
                </a:solidFill>
                <a:latin typeface="FrutigerBold"/>
              </a:rPr>
              <a:t>Benito Mussolini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Bold"/>
              </a:rPr>
              <a:t>Italy</a:t>
            </a:r>
            <a:endParaRPr b="0" lang="en-US" sz="20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46" name="Freeform 8"/>
          <p:cNvSpPr/>
          <p:nvPr/>
        </p:nvSpPr>
        <p:spPr>
          <a:xfrm>
            <a:off x="4533840" y="1003320"/>
            <a:ext cx="1803600" cy="3187800"/>
          </a:xfrm>
          <a:prstGeom prst="pi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47" name="Freeform 9"/>
          <p:cNvSpPr/>
          <p:nvPr/>
        </p:nvSpPr>
        <p:spPr>
          <a:xfrm>
            <a:off x="6629400" y="990720"/>
            <a:ext cx="1803240" cy="3187440"/>
          </a:xfrm>
          <a:prstGeom prst="pi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533520" y="6400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F04F-32EF-4070-A922-9CBC3CC9A70E}" type="slidenum">
              <a:rPr b="0" lang="en-US" sz="900" spc="-1" strike="noStrike">
                <a:solidFill>
                  <a:srgbClr val="ffffff"/>
                </a:solidFill>
                <a:latin typeface="Frutiger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d2140"/>
                </a:solidFill>
                <a:latin typeface="FrutigerBold"/>
              </a:rPr>
              <a:t>Major Leaders</a:t>
            </a:r>
            <a:endParaRPr b="0" lang="en-US" sz="3800" spc="-1" strike="noStrike">
              <a:solidFill>
                <a:srgbClr val="000000"/>
              </a:solidFill>
              <a:latin typeface="FrutigerBold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2220840" cy="40780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3837240" y="1425600"/>
            <a:ext cx="307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097f"/>
                </a:solidFill>
                <a:latin typeface="FrutigerBold"/>
              </a:rPr>
              <a:t>Hideki Tojo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Bold"/>
              </a:rPr>
              <a:t>Japanese Prime Minister</a:t>
            </a:r>
            <a:endParaRPr b="0" lang="en-US" sz="2000" spc="-1" strike="noStrike">
              <a:solidFill>
                <a:srgbClr val="000000"/>
              </a:solidFill>
              <a:latin typeface="FrutigerBold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6419880" y="3124080"/>
            <a:ext cx="2593800" cy="35038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3146400" y="5791320"/>
            <a:ext cx="333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097f"/>
                </a:solidFill>
                <a:latin typeface="FrutigerBold"/>
              </a:rPr>
              <a:t>Winston Churchill</a:t>
            </a:r>
            <a:endParaRPr b="0" lang="en-US" sz="2800" spc="-1" strike="noStrike">
              <a:solidFill>
                <a:srgbClr val="000000"/>
              </a:solidFill>
              <a:latin typeface="FrutigerBold"/>
            </a:endParaRPr>
          </a:p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Bold"/>
              </a:rPr>
              <a:t>British Prime Minister</a:t>
            </a:r>
            <a:endParaRPr b="0" lang="en-US" sz="2000" spc="-1" strike="noStrike">
              <a:solidFill>
                <a:srgbClr val="000000"/>
              </a:solidFill>
              <a:latin typeface="Frutiger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533520" y="640080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65F7-CA94-4517-9AD1-C3FAF3AEB048}" type="slidenum">
              <a:rPr b="0" lang="en-US" sz="900" spc="-1" strike="noStrike">
                <a:solidFill>
                  <a:srgbClr val="ffffff"/>
                </a:solidFill>
                <a:latin typeface="FrutigerBold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FrutigerBold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520" y="27108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d2140"/>
                </a:solidFill>
                <a:latin typeface="FrutigerBold"/>
              </a:rPr>
              <a:t>Major Leaders</a:t>
            </a:r>
            <a:endParaRPr b="0" lang="en-US" sz="3800" spc="-1" strike="noStrike">
              <a:solidFill>
                <a:srgbClr val="000000"/>
              </a:solidFill>
              <a:latin typeface="FrutigerBold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3657600" cy="2822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2"/>
          <a:stretch/>
        </p:blipFill>
        <p:spPr>
          <a:xfrm>
            <a:off x="5715000" y="3524400"/>
            <a:ext cx="3429000" cy="31366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1446840" y="5867280"/>
            <a:ext cx="41644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097f"/>
                </a:solidFill>
                <a:latin typeface="FrutigerBold"/>
              </a:rPr>
              <a:t>Franklin Delano Roosevelt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Bold"/>
              </a:rPr>
              <a:t>US President</a:t>
            </a:r>
            <a:endParaRPr b="0" lang="en-US" sz="2000" spc="-1" strike="noStrike">
              <a:solidFill>
                <a:srgbClr val="000000"/>
              </a:solidFill>
              <a:latin typeface="FrutigerBold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7010280" y="609480"/>
            <a:ext cx="2057400" cy="27464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4952880" y="1400040"/>
            <a:ext cx="20638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097f"/>
                </a:solidFill>
                <a:latin typeface="FrutigerBold"/>
              </a:rPr>
              <a:t>Joseph Stalin</a:t>
            </a:r>
            <a:endParaRPr b="0" lang="en-US" sz="2400" spc="-1" strike="noStrike">
              <a:solidFill>
                <a:srgbClr val="000000"/>
              </a:solidFill>
              <a:latin typeface="FrutigerBold"/>
            </a:endParaRPr>
          </a:p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Bold"/>
              </a:rPr>
              <a:t>Russian Leader</a:t>
            </a:r>
            <a:endParaRPr b="0" lang="en-US" sz="2000" spc="-1" strike="noStrike">
              <a:solidFill>
                <a:srgbClr val="000000"/>
              </a:solidFill>
              <a:latin typeface="Frutiger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4T17:15:57Z</dcterms:created>
  <dc:creator>Steffanie Haase</dc:creator>
  <dc:description/>
  <dc:language>en-US</dc:language>
  <cp:lastModifiedBy>spupovac</cp:lastModifiedBy>
  <cp:lastPrinted>1904-01-04T16:00:32Z</cp:lastPrinted>
  <dcterms:modified xsi:type="dcterms:W3CDTF">2011-01-21T17:03:30Z</dcterms:modified>
  <cp:revision>153</cp:revision>
  <dc:subject/>
  <dc:title>PowerPoint Presentation</dc:title>
</cp:coreProperties>
</file>